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1.gif" ContentType="image/gif"/>
  <Override PartName="/ppt/media/image4.wmf" ContentType="image/x-wmf"/>
  <Override PartName="/ppt/media/image2.wmf" ContentType="image/x-wmf"/>
  <Override PartName="/ppt/media/image5.wmf" ContentType="image/x-wmf"/>
  <Override PartName="/ppt/media/image3.gif" ContentType="image/gif"/>
  <Override PartName="/ppt/media/image6.png" ContentType="image/pn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7C69-6DDB-4D0C-9739-126A68EC6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20D5-E9BD-41D1-A1E3-80B046906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1761-EC5E-43D8-B300-8421E7213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CFA6-93D5-4ED4-BD72-6318D7054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BEBB-8B56-4529-94BE-F102888EC9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BD02-E897-4C6E-BBD3-5ADE6A4B1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858D-33DB-414A-B2CC-133712074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EB0E-707F-4E23-8F5F-80E767208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9049-A999-4C84-9B27-D8F00D26D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F50D-774D-4911-904D-698B309D4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F951-511A-4406-A458-73E1B0816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89CD-F640-48FA-A2BB-E2385E72A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B3D9-B356-46C2-911C-5C08917E9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53352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phases_moon_anim"/>
          <p:cNvPicPr/>
          <p:nvPr/>
        </p:nvPicPr>
        <p:blipFill>
          <a:blip r:embed="rId1"/>
          <a:stretch/>
        </p:blipFill>
        <p:spPr>
          <a:xfrm>
            <a:off x="3714840" y="2629080"/>
            <a:ext cx="1714320" cy="1600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143000" y="1143000"/>
            <a:ext cx="68580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Trebuchet MS"/>
              </a:rPr>
              <a:t> </a:t>
            </a: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Trebuchet MS"/>
              </a:rPr>
              <a:t>Moon Phases and Tides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Trebuchet MS"/>
              <a:ea typeface="Trebuchet MS"/>
            </a:endParaRPr>
          </a:p>
        </p:txBody>
      </p:sp>
    </p:spTree>
  </p:cSld>
  <p:transition spd="slow" advTm="1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the quarter moon, the moon is moving towards a full moon.  We call th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xing gibbous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waxgib"/>
          <p:cNvPicPr/>
          <p:nvPr/>
        </p:nvPicPr>
        <p:blipFill>
          <a:blip r:embed="rId1"/>
          <a:stretch/>
        </p:blipFill>
        <p:spPr>
          <a:xfrm>
            <a:off x="1371600" y="2362320"/>
            <a:ext cx="3581280" cy="3444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638680" y="2514600"/>
            <a:ext cx="2819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ignet Roundhand"/>
              </a:rPr>
              <a:t>Notice that the bright part of the moon is getting larger.  That</a:t>
            </a:r>
            <a:r>
              <a:rPr b="0" i="1" lang="ja-JP" sz="3200" spc="-1" strike="noStrike">
                <a:solidFill>
                  <a:srgbClr val="000000"/>
                </a:solidFill>
                <a:latin typeface="Signet Roundhand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Signet Roundhand"/>
              </a:rPr>
              <a:t>s what we mean by </a:t>
            </a:r>
            <a:r>
              <a:rPr b="0" i="1" lang="ja-JP" sz="3200" spc="-1" strike="noStrike">
                <a:solidFill>
                  <a:srgbClr val="000000"/>
                </a:solidFill>
                <a:latin typeface="Signet Roundhand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Signet Roundhand"/>
              </a:rPr>
              <a:t>waxing.</a:t>
            </a:r>
            <a:r>
              <a:rPr b="0" i="1" lang="ja-JP" sz="3200" spc="-1" strike="noStrike">
                <a:solidFill>
                  <a:srgbClr val="000000"/>
                </a:solidFill>
                <a:latin typeface="Signet Roundhan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H="1">
            <a:off x="3657600" y="3657600"/>
            <a:ext cx="22096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14400" y="609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i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time for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ll moon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re face of the moon that we are able to see shines during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ll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full"/>
          <p:cNvPicPr/>
          <p:nvPr/>
        </p:nvPicPr>
        <p:blipFill>
          <a:blip r:embed="rId1"/>
          <a:stretch/>
        </p:blipFill>
        <p:spPr>
          <a:xfrm>
            <a:off x="2590920" y="2133720"/>
            <a:ext cx="3962160" cy="381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1asp045"/>
          <p:cNvPicPr/>
          <p:nvPr/>
        </p:nvPicPr>
        <p:blipFill>
          <a:blip r:embed="rId2"/>
          <a:stretch/>
        </p:blipFill>
        <p:spPr>
          <a:xfrm>
            <a:off x="4114800" y="3124080"/>
            <a:ext cx="928800" cy="5050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that the moon is ¾ of the way aroun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rth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seems to be half lit.  We call th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ning quarter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thirdq"/>
          <p:cNvPicPr/>
          <p:nvPr/>
        </p:nvPicPr>
        <p:blipFill>
          <a:blip r:embed="rId1"/>
          <a:stretch/>
        </p:blipFill>
        <p:spPr>
          <a:xfrm>
            <a:off x="2286000" y="220968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1asp073"/>
          <p:cNvPicPr/>
          <p:nvPr/>
        </p:nvPicPr>
        <p:blipFill>
          <a:blip r:embed="rId2"/>
          <a:stretch/>
        </p:blipFill>
        <p:spPr>
          <a:xfrm>
            <a:off x="3200400" y="2971800"/>
            <a:ext cx="209088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ing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ll moon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of the moon seems to be getting smaller.  We call th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ning mo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9528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ning gibbous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2" descr="wangib"/>
          <p:cNvPicPr/>
          <p:nvPr/>
        </p:nvPicPr>
        <p:blipFill>
          <a:blip r:embed="rId1"/>
          <a:stretch/>
        </p:blipFill>
        <p:spPr>
          <a:xfrm>
            <a:off x="2971800" y="2362320"/>
            <a:ext cx="3276720" cy="3152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fore we get to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moon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see a sliver of moon shining up in the sky.  This 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ning crescen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wancres"/>
          <p:cNvPicPr/>
          <p:nvPr/>
        </p:nvPicPr>
        <p:blipFill>
          <a:blip r:embed="rId1"/>
          <a:stretch/>
        </p:blipFill>
        <p:spPr>
          <a:xfrm>
            <a:off x="2819520" y="2438280"/>
            <a:ext cx="3504960" cy="3373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304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e se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mo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Moonphases"/>
          <p:cNvPicPr/>
          <p:nvPr/>
        </p:nvPicPr>
        <p:blipFill>
          <a:blip r:embed="rId1"/>
          <a:stretch/>
        </p:blipFill>
        <p:spPr>
          <a:xfrm>
            <a:off x="304920" y="797040"/>
            <a:ext cx="8534160" cy="5538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6781680" y="6119640"/>
            <a:ext cx="1954440" cy="21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90720" y="457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t is summer in North America, we are tilt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rays of the hot, bright s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838080" y="3200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68580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762120" y="3733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685800" y="4038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580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7432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2286000" y="1752120"/>
            <a:ext cx="4041720" cy="4042080"/>
            <a:chOff x="2286000" y="1752120"/>
            <a:chExt cx="4041720" cy="4042080"/>
          </a:xfrm>
        </p:grpSpPr>
        <p:sp>
          <p:nvSpPr>
            <p:cNvPr id="107" name="Line 10"/>
            <p:cNvSpPr/>
            <p:nvPr/>
          </p:nvSpPr>
          <p:spPr>
            <a:xfrm flipV="1">
              <a:off x="2743200" y="2743200"/>
              <a:ext cx="312444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1"/>
            <p:cNvSpPr/>
            <p:nvPr/>
          </p:nvSpPr>
          <p:spPr>
            <a:xfrm>
              <a:off x="3124080" y="213372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2"/>
            <p:cNvSpPr/>
            <p:nvPr/>
          </p:nvSpPr>
          <p:spPr>
            <a:xfrm>
              <a:off x="5258160" y="495324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563904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Picture 14" descr="MB900438059.JPG"/>
            <p:cNvPicPr/>
            <p:nvPr/>
          </p:nvPicPr>
          <p:blipFill>
            <a:blip r:embed="rId1"/>
            <a:stretch/>
          </p:blipFill>
          <p:spPr>
            <a:xfrm rot="19558800">
              <a:off x="2851200" y="2317320"/>
              <a:ext cx="2911320" cy="291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90720" y="457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t is winter in North America, we are tilt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w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the su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272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7621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8380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685800" y="3809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5"/>
          <p:cNvSpPr/>
          <p:nvPr/>
        </p:nvSpPr>
        <p:spPr>
          <a:xfrm>
            <a:off x="76212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68580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4"/>
          <p:cNvGrpSpPr/>
          <p:nvPr/>
        </p:nvGrpSpPr>
        <p:grpSpPr>
          <a:xfrm>
            <a:off x="2365920" y="1604160"/>
            <a:ext cx="4078080" cy="4357800"/>
            <a:chOff x="2365920" y="1604160"/>
            <a:chExt cx="4078080" cy="4357800"/>
          </a:xfrm>
        </p:grpSpPr>
        <p:sp>
          <p:nvSpPr>
            <p:cNvPr id="121" name="Line 10"/>
            <p:cNvSpPr/>
            <p:nvPr/>
          </p:nvSpPr>
          <p:spPr>
            <a:xfrm>
              <a:off x="3070800" y="2446560"/>
              <a:ext cx="2813400" cy="23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 flipH="1">
              <a:off x="5311800" y="1993680"/>
              <a:ext cx="261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 flipH="1">
              <a:off x="3310920" y="4924800"/>
              <a:ext cx="284760" cy="5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4"/>
            <p:cNvSpPr/>
            <p:nvPr/>
          </p:nvSpPr>
          <p:spPr>
            <a:xfrm rot="2325600">
              <a:off x="3012480" y="5433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icture 19" descr="MB900438059.JPG"/>
            <p:cNvPicPr/>
            <p:nvPr/>
          </p:nvPicPr>
          <p:blipFill>
            <a:blip r:embed="rId1"/>
            <a:stretch/>
          </p:blipFill>
          <p:spPr>
            <a:xfrm rot="2226600">
              <a:off x="2949120" y="2187360"/>
              <a:ext cx="2911320" cy="291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371600" y="76212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look up in our night sky, you will se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!  The way that the moon looks changes during the month.  We say that the phases of the moon ar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ycle in natur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Moonfull"/>
          <p:cNvPicPr/>
          <p:nvPr/>
        </p:nvPicPr>
        <p:blipFill>
          <a:blip r:embed="rId1"/>
          <a:stretch/>
        </p:blipFill>
        <p:spPr>
          <a:xfrm>
            <a:off x="3352680" y="3429000"/>
            <a:ext cx="2057400" cy="20113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371600" y="7621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arth has 1 moon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volv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ound the Earth.  It is a satellite of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erthmoon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0338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219320" y="5029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tak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9 ½ day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almost 1 month – for the moon to mov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(revolv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ound the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s00975_"/>
          <p:cNvPicPr/>
          <p:nvPr/>
        </p:nvPicPr>
        <p:blipFill>
          <a:blip r:embed="rId1"/>
          <a:stretch/>
        </p:blipFill>
        <p:spPr>
          <a:xfrm>
            <a:off x="2133720" y="1371600"/>
            <a:ext cx="4584600" cy="28288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on does not make any light of its own.  The lighted parts that we see are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066680" y="2438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o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lec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 from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so01038_"/>
          <p:cNvPicPr/>
          <p:nvPr/>
        </p:nvPicPr>
        <p:blipFill>
          <a:blip r:embed="rId1"/>
          <a:stretch/>
        </p:blipFill>
        <p:spPr>
          <a:xfrm>
            <a:off x="3200400" y="3124080"/>
            <a:ext cx="2908440" cy="2925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066680" y="457200"/>
            <a:ext cx="213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moo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v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(revolve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ound the Earth, it looks like it has different shapes.  The shape of the moon do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ally change.  It just changes its location in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phasenames_small"/>
          <p:cNvPicPr/>
          <p:nvPr/>
        </p:nvPicPr>
        <p:blipFill>
          <a:blip r:embed="rId1"/>
          <a:stretch/>
        </p:blipFill>
        <p:spPr>
          <a:xfrm>
            <a:off x="4038480" y="380880"/>
            <a:ext cx="4114800" cy="59436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90720" y="838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take a closer look a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s of the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14300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ing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mo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moon looks d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ew moon"/>
          <p:cNvPicPr/>
          <p:nvPr/>
        </p:nvPicPr>
        <p:blipFill>
          <a:blip r:embed="rId1"/>
          <a:stretch/>
        </p:blipFill>
        <p:spPr>
          <a:xfrm>
            <a:off x="3276720" y="3505320"/>
            <a:ext cx="2644560" cy="2544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90720" y="838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surface of the moon that we see gets bigger, we say that the moon i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x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06668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xing cresc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waxcres"/>
          <p:cNvPicPr/>
          <p:nvPr/>
        </p:nvPicPr>
        <p:blipFill>
          <a:blip r:embed="rId1"/>
          <a:stretch/>
        </p:blipFill>
        <p:spPr>
          <a:xfrm>
            <a:off x="2590920" y="2065320"/>
            <a:ext cx="3504960" cy="3373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moon is ¼ of the way around the earth, it is in its first quarter phase.  We see it as half l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219320" y="5410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xing quarter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firstq"/>
          <p:cNvPicPr/>
          <p:nvPr/>
        </p:nvPicPr>
        <p:blipFill>
          <a:blip r:embed="rId1"/>
          <a:stretch/>
        </p:blipFill>
        <p:spPr>
          <a:xfrm>
            <a:off x="2895480" y="2035080"/>
            <a:ext cx="3124440" cy="3006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2:28:54Z</dcterms:created>
  <dc:creator>Mr and Mrs Weinberg</dc:creator>
  <dc:description/>
  <dc:language>en-US</dc:language>
  <cp:lastModifiedBy>Denice Fogel User</cp:lastModifiedBy>
  <dcterms:modified xsi:type="dcterms:W3CDTF">2013-06-09T21:39:12Z</dcterms:modified>
  <cp:revision>26</cp:revision>
  <dc:subject/>
  <dc:title>PowerPoint Presentation</dc:title>
</cp:coreProperties>
</file>